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F1ED-CDF9-4085-BF97-23F1D7CF3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1F41-AF69-43B2-B7AA-13DC837C6B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CC94-A94F-435E-858D-7B00BA7E5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6858-9653-4058-B526-27F75981F8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3547-2599-4253-B665-BE315125A3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1D6C-482C-463F-A845-FEB0982AAA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12FD-6CD5-4CED-AC8F-8D4019443A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C819-6B14-471C-A132-63DD07F18B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7DA9-A265-41C0-831D-6930E00A55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0ACA-C4D2-4DE6-BA64-A5950C8B87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3914-6A90-40B0-8437-743C908CD7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0524-EE4A-4B4A-9A2F-2E7A7857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8A0-68E9-43B1-A375-CC085A4F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F628-05F8-4DF1-8A7B-C7BA0699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897-6A83-4D06-9B17-A99F6DE3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5828-D184-42BA-89A7-438C0740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2F38-2B3A-41BA-8045-CF53039C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760F-3ACB-4009-82CA-CE0982BA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D9E9-DD5F-4834-8F3F-3B455681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E68D-ED79-4FEC-BFB8-631979B5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4B23-6B6F-4F60-8059-30F7B015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9120-1D53-4024-98E0-A7ECA195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A16-33DD-4119-A774-3BEEC090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E910-5F82-48D9-B65B-4847E733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A419-5E7D-4C4C-A8EA-9B3A8823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831E-AFCB-4289-9D67-AAA0537C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FB0E-FF17-4007-97D4-0F213C97F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EA40-6541-41A5-B02C-37D14E92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AB4-C501-4032-957B-8C8EE062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05B-A602-461B-AB22-C7AE0878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190-EA4F-43C8-97E8-25B6B201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08D9-6DBB-4C69-8B6D-6D2F28FE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060-B23E-4137-8DAE-24B35738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28D-14C6-41DF-9EA6-ABA5FE80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676-B0E4-4FB9-BC8A-FDFCEDDA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AEFA-8A48-4E9E-8149-B23BC69DE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4D32-6DFE-4646-934D-E691B98A1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d3bdbd"/>
                </a:solidFill>
                <a:latin typeface="Arial"/>
              </a:rPr>
              <a:t>The Progressive Era</a:t>
            </a:r>
            <a:br>
              <a:rPr sz="4800"/>
            </a:br>
            <a:endParaRPr b="0" lang="en-US" sz="48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1890- 19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Economic Reform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es- belief that workers deserve a share of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se corrupt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krackers- investigative journ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Political Reform- desire for gov</a:t>
            </a:r>
            <a:r>
              <a:rPr b="0" lang="ja-JP" sz="4200" spc="-1" strike="noStrike">
                <a:solidFill>
                  <a:srgbClr val="d3bdbd"/>
                </a:solidFill>
                <a:latin typeface="Arial"/>
              </a:rPr>
              <a:t>’</a:t>
            </a: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t to be more efficient and responsive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 election of US Senators- 1913- 17th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involvement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ive- a bill introduced by th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l- voters can remove an official before the end of their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dum-a direct popular vote on an issue of public policy, such as a proposed amendment to a state constitution or a proposed la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at the national level, but are common at the state and lo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often used to gauge popular approval or rejection of laws recently passed or under consideration by a state legisl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	</a:t>
            </a: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What problems existed in America at the turn of the Century?</a:t>
            </a:r>
            <a:br>
              <a:rPr sz="4200"/>
            </a:br>
            <a:br>
              <a:rPr sz="4200"/>
            </a:br>
            <a:r>
              <a:rPr b="0" i="1" lang="en-US" sz="3400" spc="-1" strike="noStrike">
                <a:solidFill>
                  <a:srgbClr val="d3bdbd"/>
                </a:solidFill>
                <a:latin typeface="Arial"/>
              </a:rPr>
              <a:t>Brainstorm a List</a:t>
            </a:r>
            <a:br>
              <a:rPr sz="3400"/>
            </a:br>
            <a:endParaRPr b="0" lang="en-US" sz="34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Problems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Business infl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polies- eliminate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bri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lroads- gov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land gr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igration- (Chinese) Nativ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 Corru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ization- poor conditions, overcrow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3 +1893 Economic Rec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support unions- poor worki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ible removal of Native Amer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 of = rts. Bl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ate was elected by State Legis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What does Progressive Mean?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towards a go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or development; continuous impro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velopment of a society in a direction considered more beneficial than p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ogressive is one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favor of the political philosophy of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914400" y="4267080"/>
            <a:ext cx="739152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3bdbd"/>
                </a:solidFill>
                <a:latin typeface="Arial"/>
              </a:rPr>
              <a:t>Who Were the Progressives?</a:t>
            </a:r>
            <a:br>
              <a:rPr sz="3600"/>
            </a:br>
            <a:r>
              <a:rPr b="0" lang="en-US" sz="3200" spc="-1" strike="noStrike">
                <a:solidFill>
                  <a:srgbClr val="d3bdbd"/>
                </a:solidFill>
                <a:latin typeface="Arial"/>
              </a:rPr>
              <a:t>Not an easy answer…</a:t>
            </a:r>
            <a:endParaRPr b="0" lang="en-US" sz="3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-Class- unu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Refo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-Class Political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 Immigration Assoc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3bdbd"/>
                </a:solidFill>
                <a:latin typeface="Arial"/>
              </a:rPr>
              <a:t>What was the Progressive Agenda?</a:t>
            </a:r>
            <a:endParaRPr b="0" lang="en-US" sz="36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Welf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al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19320" y="76320"/>
            <a:ext cx="7772400" cy="7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f6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02b00"/>
                </a:solidFill>
                <a:latin typeface="Wrangler"/>
                <a:ea typeface="ＭＳ Ｐゴシック"/>
              </a:rPr>
              <a:t>Progressive Party Platfor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09680" y="936720"/>
            <a:ext cx="5715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Women</a:t>
            </a:r>
            <a:r>
              <a:rPr b="1" lang="ja-JP" sz="2500" spc="-1" strike="noStrike">
                <a:solidFill>
                  <a:srgbClr val="d3bdbd"/>
                </a:solidFill>
                <a:latin typeface="Arial"/>
              </a:rPr>
              <a:t>’</a:t>
            </a: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s suffrag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Graduated income tax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Inheritance tax for the rich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Lower tariff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Limits on campaign spending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Currency reform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Minimum wage law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Social insuranc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Abolition of child labo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62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Workmen</a:t>
            </a:r>
            <a:r>
              <a:rPr b="1" lang="ja-JP" sz="2500" spc="-1" strike="noStrike">
                <a:solidFill>
                  <a:srgbClr val="d3bdbd"/>
                </a:solidFill>
                <a:latin typeface="Arial"/>
              </a:rPr>
              <a:t>’</a:t>
            </a:r>
            <a:r>
              <a:rPr b="1" lang="en-US" sz="2500" spc="-1" strike="noStrike">
                <a:solidFill>
                  <a:srgbClr val="d3bdbd"/>
                </a:solidFill>
                <a:latin typeface="Comic Sans MS"/>
              </a:rPr>
              <a:t>s compensation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848720" y="974880"/>
            <a:ext cx="60948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999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e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t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s</a:t>
            </a:r>
            <a:br>
              <a:rPr sz="2400"/>
            </a:br>
            <a:r>
              <a:rPr b="1" lang="en-US" sz="2400" spc="-1" strike="noStrike">
                <a:solidFill>
                  <a:srgbClr val="bf6d6d"/>
                </a:solidFill>
                <a:latin typeface="Elephant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Social Welfare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M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ment Ho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ization- Eng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v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b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ys and Girls Cl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43000" y="4724280"/>
            <a:ext cx="6324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these groups promote social welf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Moral Improvemen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hib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Christian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Temperance Mv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1:57:21Z</dcterms:created>
  <dc:creator>Microsoft Office User</dc:creator>
  <dc:description/>
  <dc:language>en-US</dc:language>
  <cp:lastModifiedBy>Microsoft Office User</cp:lastModifiedBy>
  <dcterms:modified xsi:type="dcterms:W3CDTF">2016-04-26T12:24:31Z</dcterms:modified>
  <cp:revision>1</cp:revision>
  <dc:subject/>
  <dc:title> The Progressive Era </dc:title>
</cp:coreProperties>
</file>